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7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38.png" ContentType="image/png"/>
  <Override PartName="/ppt/media/image37.png" ContentType="image/pn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4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36.jpeg" ContentType="image/jpeg"/>
  <Override PartName="/ppt/media/image20.png" ContentType="image/png"/>
  <Override PartName="/ppt/media/image21.png" ContentType="image/png"/>
  <Override PartName="/ppt/media/image19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D18-FD21-4BDD-9863-03539F6D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0E4-A66A-4E16-B96B-D6C59DA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C3A-D136-4ECB-BBF8-B5B9D423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44C-C444-47D8-8CEE-C848F0F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899-EEB1-4132-AF12-1684A1A9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83C-E6C0-4367-AFB6-52C8DDDE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E0F-03EA-4C07-941D-17B1B1A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484-1582-4C99-B7EB-8F2573D5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C3F-516D-4A7F-82A2-2CCA9D7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556-ECF2-40E4-8F7E-718301D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0CA-12AD-4666-BF3D-39113908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41C-7AEB-454C-8DBD-CAAE74E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CDD9-A1B6-4534-A6CE-C2032B18F9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wmf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wmf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6.wmf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wmf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6.wmf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package" Target="../embeddings/oleObject2.xlsx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28.png"/><Relationship Id="rId8" Type="http://schemas.openxmlformats.org/officeDocument/2006/relationships/image" Target="../media/image33.png"/><Relationship Id="rId9" Type="http://schemas.openxmlformats.org/officeDocument/2006/relationships/image" Target="../media/image38.png"/><Relationship Id="rId10" Type="http://schemas.openxmlformats.org/officeDocument/2006/relationships/image" Target="../media/image29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диспетчериз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952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ционный мониторинг и супервизорное управление состоянием процесса и оборудования на удаленном ИТП/ЦТ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ое управление процессом и  оборудованием ИТП/ЦТП с локального контро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сводной информации, расчет ТЭП, архив событий на диспетчерском пун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интегральной информацией с верхним уров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многочисленных, неоднородных каналов связи и различных протоколов обмена на нижнем уров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logo" descr=""/>
          <p:cNvPicPr/>
          <p:nvPr/>
        </p:nvPicPr>
        <p:blipFill>
          <a:blip r:embed="rId2"/>
          <a:stretch/>
        </p:blipFill>
        <p:spPr>
          <a:xfrm>
            <a:off x="7896240" y="163440"/>
            <a:ext cx="942840" cy="83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3" name=""/>
          <p:cNvSpPr/>
          <p:nvPr/>
        </p:nvSpPr>
        <p:spPr>
          <a:xfrm>
            <a:off x="0" y="1143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Условия эксплуатации коммуникационного контроллера и модулей ввода/выво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7652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ая темпера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25…+75 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пература хранения и транспортиров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0…+85 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жность (без конденсаци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…9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 агрессивных га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защиты от внешних воздейств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удительное охлажд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ребу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  осуществляется от источника постоянного тока с напряжением 10…30 В, стабилизация не требуется. Потребляемая мощность очень невелика, и составляет примерно 0.8 – 2  Вт на каждый модуль ввода-вывода или К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0" name=""/>
          <p:cNvSpPr/>
          <p:nvPr/>
        </p:nvSpPr>
        <p:spPr>
          <a:xfrm>
            <a:off x="0" y="1143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Конструкция коммуникационного контроллера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и модулей ввода/выво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4251240" cy="232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251600" cy="2338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20" y="1981080"/>
            <a:ext cx="838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отипный пластмассовый корпус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ъем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леммны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оками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винтовым подсоединением кабел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ули монтируются на пан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винт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ходящих сквозь корпу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 на DI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ку 35 м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9" name=""/>
          <p:cNvSpPr/>
          <p:nvPr/>
        </p:nvSpPr>
        <p:spPr>
          <a:xfrm>
            <a:off x="228600" y="11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токол обмена с верхним уровнем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dbus-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752480"/>
            <a:ext cx="853416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ет с портом 01 в режиме ведомого (дуплекс/полудуплек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анды: 03-чт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ing register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о 12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04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egister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о 2047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06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ь одного регис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 запроса:  Сетевой адрес КК – 1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анда – 2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Адрес регистра – 3-й и 4-й бай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Число запрашиваемых регистров – 5-й и 6-й бай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нтрольная сумма – 7-й бай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 ответа:    Сетевой адрес КК – 1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анда – 2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Размер посылки – 4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Значения запрошенных регистров – 4-й 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нтрольная сумма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й бай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ется диагностика ошибок передачи и связи с подключенными устройств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96" name=""/>
          <p:cNvSpPr/>
          <p:nvPr/>
        </p:nvSpPr>
        <p:spPr>
          <a:xfrm>
            <a:off x="22860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синхронный алгорит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67652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ован в памяти КК и выполняется независимо от внешни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держивает актуальность массива внутренних регистров КК, связа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непосредственно с физическими данными записи(управляющ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выходы)/чтения(входы датчиков) 2-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L3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модулей ввода-выв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овление информ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L3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водится с периодом 30 секун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овление информации модулей ввода-вывода – с периодом 5 секун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4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Registrer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атч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 модулей ввод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0000 - IR7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4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ing Regist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R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анные для чтения и запис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0000-HR7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связи с внешними устрой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диагностика и аппаратная сигнализация отказов К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к массиву регистров произволь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технологических алгоритмов (при наличии среды разработ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новых протоколов опрос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оследовательных устрой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228240" y="1751040"/>
            <a:ext cx="3688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ч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подачи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подачи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обратной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обратной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лон графика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лон графика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9040" y="1828800"/>
            <a:ext cx="407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щение графика 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е граф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нижняя граница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нижняя граница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верхняя граница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верхняя граница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день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ночь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день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ночь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ВС задание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ВС задание н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219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нны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ECL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адресуемые через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dbus-RT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1" name=""/>
          <p:cNvSpPr/>
          <p:nvPr/>
        </p:nvSpPr>
        <p:spPr>
          <a:xfrm>
            <a:off x="0" y="2057400"/>
            <a:ext cx="403848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овый вход 1 модул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2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3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4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5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71520" y="1981080"/>
            <a:ext cx="5181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овый вх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7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8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кретные входы с 0 по 13  I-7041D (16 би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кретные выходы с 1 по 13  I-7042 (16 би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нны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ввода/вывод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адресуемые через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dbus-RT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9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ямой опрос подключенных устройст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51460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ый опрос памяти подключенных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запроса настроек 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токола опр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регистрами от 8000 д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F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езен при отла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0" y="1219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абота с линиями связ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67652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ид связ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-232(дуплекс/полудупле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-485 (двухпровод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еленные ли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утируемые ли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и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окол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 R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авление собственных проток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3" name=""/>
          <p:cNvSpPr/>
          <p:nvPr/>
        </p:nvSpPr>
        <p:spPr>
          <a:xfrm>
            <a:off x="0" y="1219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асширение возможносте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67652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ификация аппаратной структу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лением/добавлением модулей ввода-вывод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48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ли использованием модулей с ины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параметрами входных/выходных сигналов (например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ходы/выходы на высокое напряж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лючением релейных моду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лючением произвольных устройств к портам К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ификация программного обеспе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ением алгоритмов работы с линиями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ением технологических алгорит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рректировка базового ПО в среде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каз вариант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fortCom отличного от базово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1430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имущества использования контроллер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0574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зкая сто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номная работа при отключении от верхне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зависимость решения от среды передачи данных (выделенная и коммутируемая линии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S-48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дио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ernet, GSM, 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ение и буферизация информации в контролл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ость разработки собственного алгоритма 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ициативный вызов диспетчерского пункта в случае ава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ирование каналов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сткое реальное время опроса 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24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9528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стема диспетчеризации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истема отображения и связи с удаленными контроллер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кационный контроллер (К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леры Данфосс для управления тепловыми процесс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и ввода/вывода технологических сигна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ура связ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ектное решение по диспетчеризации ЦТ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0" y="1066680"/>
          <a:ext cx="7848720" cy="53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784872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25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297000" y="1176480"/>
            <a:ext cx="855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каф управл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ниТЭЦ  «Новокард», внешний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133720" y="1662120"/>
            <a:ext cx="3819240" cy="504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228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L Comfort 3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3880"/>
            <a:ext cx="1066680" cy="381240"/>
          </a:xfrm>
          <a:prstGeom prst="wedgeRoundRectCallout">
            <a:avLst>
              <a:gd name="adj1" fmla="val 200000"/>
              <a:gd name="adj2" fmla="val 14000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t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2362320"/>
            <a:ext cx="990360" cy="304560"/>
          </a:xfrm>
          <a:prstGeom prst="wedgeRoundRectCallout">
            <a:avLst>
              <a:gd name="adj1" fmla="val 192148"/>
              <a:gd name="adj2" fmla="val 24062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133720"/>
            <a:ext cx="990720" cy="304560"/>
          </a:xfrm>
          <a:prstGeom prst="wedgeRoundRectCallout">
            <a:avLst>
              <a:gd name="adj1" fmla="val -197597"/>
              <a:gd name="adj2" fmla="val 29479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logo" descr=""/>
          <p:cNvPicPr/>
          <p:nvPr/>
        </p:nvPicPr>
        <p:blipFill>
          <a:blip r:embed="rId1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61" name=""/>
          <p:cNvSpPr/>
          <p:nvPr/>
        </p:nvSpPr>
        <p:spPr>
          <a:xfrm>
            <a:off x="609480" y="1162080"/>
            <a:ext cx="8277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каф управл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ниТЭЦ  «Новокард», вид на монта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219320" y="1623960"/>
            <a:ext cx="6553080" cy="50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" y="228600"/>
            <a:ext cx="779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L Comfort 3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89760" y="2398680"/>
            <a:ext cx="1106640" cy="365040"/>
          </a:xfrm>
          <a:prstGeom prst="wedgeRoundRectCallout">
            <a:avLst>
              <a:gd name="adj1" fmla="val -170662"/>
              <a:gd name="adj2" fmla="val -13000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00" y="2362320"/>
            <a:ext cx="811080" cy="291960"/>
          </a:xfrm>
          <a:prstGeom prst="wedgeRoundRectCallout">
            <a:avLst>
              <a:gd name="adj1" fmla="val 103425"/>
              <a:gd name="adj2" fmla="val -16847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240" y="3276720"/>
            <a:ext cx="884160" cy="730080"/>
          </a:xfrm>
          <a:prstGeom prst="wedgeRoundRectCallout">
            <a:avLst>
              <a:gd name="adj1" fmla="val 196138"/>
              <a:gd name="adj2" fmla="val -18108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ули ввода / выв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48720" y="6018120"/>
            <a:ext cx="12952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057400"/>
            <a:ext cx="8839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h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ИТП и ЦТ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S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системами утилизации тепла автономных источников э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HV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сложными системами вентиляции и контроля клим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6800" y="1371600"/>
            <a:ext cx="4219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реда исполнени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543800" y="6019920"/>
            <a:ext cx="160020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разработ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возможность разработки собственных протоколов обмена и алгоритмов работы контрол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560" y="1469880"/>
            <a:ext cx="48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истема разрабо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96080" y="6019920"/>
            <a:ext cx="144792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28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52280" y="1752480"/>
            <a:ext cx="8991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ение мнемосхемы расположения объектов и и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основных параметров (минимальная конфигур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озволяет подключить до 10 ЦТП/ИТП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ение мнемосхемы работы ЦТП/ИТ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схемы работы и дистанционного управл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мех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ки (тренды) изменения параме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ка любых видов связи с удаленными объе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ключение практически любого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ункции системы диспетчеризации и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280" y="1981080"/>
            <a:ext cx="89917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ость изменения интерфейса диспетчера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ользова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кость установки и интеграции с различными офисны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акетами и базами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ка русскоязычных версий,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оддержка и об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н на базе продуктов фирм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onderware и SCADA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пакета In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ункции системы диспетчеризации и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684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logo" descr=""/>
          <p:cNvPicPr/>
          <p:nvPr/>
        </p:nvPicPr>
        <p:blipFill>
          <a:blip r:embed="rId3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емосхема контура горячего водоснаб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0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емосхема контуров ГВС и отоп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1676520"/>
          <a:ext cx="5992920" cy="421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676520"/>
                    <a:ext cx="59929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17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емосхема работы с оборудо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38280" y="1676520"/>
          <a:ext cx="4343400" cy="434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16765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К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143000"/>
            <a:ext cx="5105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арактеристики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4 до 8 (в зависимости от модификации) встроенных коммуникационных по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азовое программное обеспечение для работы с контроллерами Данфосс и Д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оенный сторожевой таймер  и часы реального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разрядный светодиодный индик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разработки и загрузки пользовательских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ение динамических данных в энергонезависимой памя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аппаратным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ами и выход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7188hand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12732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logo" descr=""/>
          <p:cNvPicPr/>
          <p:nvPr/>
        </p:nvPicPr>
        <p:blipFill>
          <a:blip r:embed="rId3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26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2280" y="10666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рафик изменения параметр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тренд реального време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752480" y="2057400"/>
          <a:ext cx="5791320" cy="434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057400"/>
                    <a:ext cx="5791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3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52280" y="10666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рафик изменения параметр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исторический трен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3880" y="2133720"/>
          <a:ext cx="6400800" cy="377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133720"/>
                    <a:ext cx="64008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34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52280" y="1752480"/>
            <a:ext cx="8991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струментальные средства для быстрой разработк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прикладных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ция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добство работы диспетч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2133720" y="3505320"/>
            <a:ext cx="3809880" cy="2890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rcRect l="20629" t="12502" r="5626" b="10002"/>
          <a:stretch/>
        </p:blipFill>
        <p:spPr>
          <a:xfrm>
            <a:off x="4876920" y="2819520"/>
            <a:ext cx="3597120" cy="28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35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1523880" y="2924280"/>
            <a:ext cx="4800600" cy="3933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4343400" y="2133720"/>
            <a:ext cx="4800600" cy="39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1523880"/>
            <a:ext cx="899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а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zar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ают возможность быстро добави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графику в Ваше при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36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5228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751040"/>
            <a:ext cx="42116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u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ступен в режим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ает возможность осуществля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тральное разверты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«тонких клиентов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торное использование существующих морально устаревших компьют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ощенное управл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м обеспеч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ент/серверная 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692600" y="2217240"/>
            <a:ext cx="3352680" cy="225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692600" y="3207960"/>
            <a:ext cx="3352680" cy="133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616280" y="4198680"/>
            <a:ext cx="342900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6280" y="4545000"/>
            <a:ext cx="3429000" cy="49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16280" y="4545000"/>
            <a:ext cx="3429000" cy="148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402080" y="3751200"/>
          <a:ext cx="1746360" cy="205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2080" y="3751200"/>
                    <a:ext cx="174636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4159080" y="2754360"/>
            <a:ext cx="4720320" cy="1790280"/>
            <a:chOff x="4159080" y="2754360"/>
            <a:chExt cx="4720320" cy="1790280"/>
          </a:xfrm>
        </p:grpSpPr>
        <p:grpSp>
          <p:nvGrpSpPr>
            <p:cNvPr id="376" name=""/>
            <p:cNvGrpSpPr/>
            <p:nvPr/>
          </p:nvGrpSpPr>
          <p:grpSpPr>
            <a:xfrm>
              <a:off x="7968960" y="2754360"/>
              <a:ext cx="910440" cy="795600"/>
              <a:chOff x="7968960" y="2754360"/>
              <a:chExt cx="910440" cy="7956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7968960" y="2754360"/>
                <a:ext cx="910440" cy="795600"/>
                <a:chOff x="7968960" y="2754360"/>
                <a:chExt cx="910440" cy="795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8105040" y="322380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118360" y="327960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381880" y="323784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121600" y="2754360"/>
                  <a:ext cx="597960" cy="42444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63360" y="279864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183520" y="281232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411400" y="325188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436960" y="328788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381880" y="327384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381880" y="330444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664840" y="327636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68960" y="3368880"/>
                  <a:ext cx="910440" cy="14796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68960" y="351972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079480" y="337968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030880" y="339948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564040" y="339948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570520" y="343872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77440" y="340272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87200" y="319536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64840" y="316188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206200" y="321480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15920" y="320400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" descr=""/>
              <p:cNvPicPr/>
              <p:nvPr/>
            </p:nvPicPr>
            <p:blipFill>
              <a:blip r:embed="rId6"/>
              <a:srcRect l="0" t="8000" r="0" b="0"/>
              <a:stretch/>
            </p:blipFill>
            <p:spPr>
              <a:xfrm>
                <a:off x="8228880" y="2809080"/>
                <a:ext cx="39024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7"/>
            <a:srcRect l="0" t="8000" r="0" b="0"/>
            <a:stretch/>
          </p:blipFill>
          <p:spPr>
            <a:xfrm>
              <a:off x="4159080" y="3984480"/>
              <a:ext cx="7621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8"/>
            <a:stretch/>
          </p:blipFill>
          <p:spPr>
            <a:xfrm>
              <a:off x="6521400" y="3512880"/>
              <a:ext cx="5158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4311720" y="3706920"/>
            <a:ext cx="4567320" cy="990000"/>
            <a:chOff x="4311720" y="3706920"/>
            <a:chExt cx="4567320" cy="990000"/>
          </a:xfrm>
        </p:grpSpPr>
        <p:grpSp>
          <p:nvGrpSpPr>
            <p:cNvPr id="404" name=""/>
            <p:cNvGrpSpPr/>
            <p:nvPr/>
          </p:nvGrpSpPr>
          <p:grpSpPr>
            <a:xfrm>
              <a:off x="7968960" y="3706920"/>
              <a:ext cx="910080" cy="795600"/>
              <a:chOff x="7968960" y="3706920"/>
              <a:chExt cx="910080" cy="7956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7968960" y="3706920"/>
                <a:ext cx="910080" cy="795600"/>
                <a:chOff x="7968960" y="3706920"/>
                <a:chExt cx="910080" cy="7956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8105040" y="417636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118360" y="423216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381520" y="4190400"/>
                  <a:ext cx="22752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21240" y="3706920"/>
                  <a:ext cx="597600" cy="42444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163360" y="3751200"/>
                  <a:ext cx="51732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183160" y="376488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411040" y="420444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6960" y="424044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381520" y="4226400"/>
                  <a:ext cx="24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381520" y="4257000"/>
                  <a:ext cx="24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664840" y="422892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68960" y="4321440"/>
                  <a:ext cx="910080" cy="14796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68960" y="4472280"/>
                  <a:ext cx="89388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79480" y="4332240"/>
                  <a:ext cx="58140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030880" y="435204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563680" y="435204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570160" y="439128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677080" y="435528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287200" y="414792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664840" y="411444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206200" y="416736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215560" y="4156560"/>
                  <a:ext cx="41544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28" name="" descr=""/>
              <p:cNvPicPr/>
              <p:nvPr/>
            </p:nvPicPr>
            <p:blipFill>
              <a:blip r:embed="rId9"/>
              <a:srcRect l="0" t="8000" r="0" b="0"/>
              <a:stretch/>
            </p:blipFill>
            <p:spPr>
              <a:xfrm>
                <a:off x="8228880" y="3761640"/>
                <a:ext cx="39024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9" name="" descr=""/>
            <p:cNvPicPr/>
            <p:nvPr/>
          </p:nvPicPr>
          <p:blipFill>
            <a:blip r:embed="rId10"/>
            <a:srcRect l="0" t="8000" r="0" b="0"/>
            <a:stretch/>
          </p:blipFill>
          <p:spPr>
            <a:xfrm>
              <a:off x="4311720" y="4136760"/>
              <a:ext cx="7617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1"/>
            <a:stretch/>
          </p:blipFill>
          <p:spPr>
            <a:xfrm>
              <a:off x="6521400" y="4122720"/>
              <a:ext cx="5155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64000" y="4289400"/>
            <a:ext cx="4415400" cy="1165680"/>
            <a:chOff x="4464000" y="4289400"/>
            <a:chExt cx="4415400" cy="1165680"/>
          </a:xfrm>
        </p:grpSpPr>
        <p:grpSp>
          <p:nvGrpSpPr>
            <p:cNvPr id="432" name=""/>
            <p:cNvGrpSpPr/>
            <p:nvPr/>
          </p:nvGrpSpPr>
          <p:grpSpPr>
            <a:xfrm>
              <a:off x="7968960" y="4659120"/>
              <a:ext cx="910440" cy="795960"/>
              <a:chOff x="7968960" y="4659120"/>
              <a:chExt cx="910440" cy="7959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7968960" y="4659120"/>
                <a:ext cx="910440" cy="795960"/>
                <a:chOff x="7968960" y="4659120"/>
                <a:chExt cx="910440" cy="795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105040" y="512892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118360" y="518472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381880" y="514260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121600" y="4659120"/>
                  <a:ext cx="597960" cy="42480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163360" y="470340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183520" y="471744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411400" y="515664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436960" y="519300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381880" y="517896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381880" y="520920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664840" y="518148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968960" y="5274000"/>
                  <a:ext cx="910440" cy="14832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968960" y="542484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079480" y="528480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030880" y="530460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564040" y="530460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570520" y="534384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677440" y="530748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287200" y="510012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664840" y="506664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206200" y="511992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215920" y="510912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6" name="" descr=""/>
              <p:cNvPicPr/>
              <p:nvPr/>
            </p:nvPicPr>
            <p:blipFill>
              <a:blip r:embed="rId12"/>
              <a:srcRect l="0" t="8000" r="0" b="0"/>
              <a:stretch/>
            </p:blipFill>
            <p:spPr>
              <a:xfrm>
                <a:off x="8228880" y="4713840"/>
                <a:ext cx="39024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7" name="" descr=""/>
            <p:cNvPicPr/>
            <p:nvPr/>
          </p:nvPicPr>
          <p:blipFill>
            <a:blip r:embed="rId13"/>
            <a:srcRect l="0" t="8000" r="0" b="0"/>
            <a:stretch/>
          </p:blipFill>
          <p:spPr>
            <a:xfrm>
              <a:off x="4464000" y="4289400"/>
              <a:ext cx="7617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4"/>
            <a:stretch/>
          </p:blipFill>
          <p:spPr>
            <a:xfrm>
              <a:off x="6521400" y="4655880"/>
              <a:ext cx="5158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616280" y="4441680"/>
            <a:ext cx="4263120" cy="1965960"/>
            <a:chOff x="4616280" y="4441680"/>
            <a:chExt cx="4263120" cy="1965960"/>
          </a:xfrm>
        </p:grpSpPr>
        <p:grpSp>
          <p:nvGrpSpPr>
            <p:cNvPr id="460" name=""/>
            <p:cNvGrpSpPr/>
            <p:nvPr/>
          </p:nvGrpSpPr>
          <p:grpSpPr>
            <a:xfrm>
              <a:off x="7968960" y="5611680"/>
              <a:ext cx="910440" cy="795960"/>
              <a:chOff x="7968960" y="5611680"/>
              <a:chExt cx="910440" cy="7959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7968960" y="5611680"/>
                <a:ext cx="910440" cy="795960"/>
                <a:chOff x="7968960" y="5611680"/>
                <a:chExt cx="910440" cy="795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05040" y="608148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18360" y="613728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381880" y="609516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21600" y="5611680"/>
                  <a:ext cx="597960" cy="42480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163360" y="565596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183520" y="567000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411400" y="610920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436960" y="614556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381880" y="613152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381880" y="616176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664840" y="613404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68960" y="6226560"/>
                  <a:ext cx="910440" cy="14832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68960" y="637740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79480" y="623736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030880" y="625716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564040" y="625716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570520" y="629640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677440" y="626004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287200" y="605268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664840" y="601920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206200" y="607248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15920" y="606168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4" name="" descr=""/>
              <p:cNvPicPr/>
              <p:nvPr/>
            </p:nvPicPr>
            <p:blipFill>
              <a:blip r:embed="rId15"/>
              <a:srcRect l="0" t="8000" r="0" b="0"/>
              <a:stretch/>
            </p:blipFill>
            <p:spPr>
              <a:xfrm>
                <a:off x="8228880" y="5666400"/>
                <a:ext cx="39024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5" name="" descr=""/>
            <p:cNvPicPr/>
            <p:nvPr/>
          </p:nvPicPr>
          <p:blipFill>
            <a:blip r:embed="rId16"/>
            <a:srcRect l="0" t="8000" r="0" b="0"/>
            <a:stretch/>
          </p:blipFill>
          <p:spPr>
            <a:xfrm>
              <a:off x="4616280" y="4441680"/>
              <a:ext cx="762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17"/>
            <a:stretch/>
          </p:blipFill>
          <p:spPr>
            <a:xfrm>
              <a:off x="6521400" y="5302080"/>
              <a:ext cx="5158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4006800" y="1801800"/>
            <a:ext cx="4872600" cy="2590560"/>
            <a:chOff x="4006800" y="1801800"/>
            <a:chExt cx="4872600" cy="2590560"/>
          </a:xfrm>
        </p:grpSpPr>
        <p:grpSp>
          <p:nvGrpSpPr>
            <p:cNvPr id="488" name=""/>
            <p:cNvGrpSpPr/>
            <p:nvPr/>
          </p:nvGrpSpPr>
          <p:grpSpPr>
            <a:xfrm>
              <a:off x="7968960" y="1801800"/>
              <a:ext cx="910440" cy="795600"/>
              <a:chOff x="7968960" y="1801800"/>
              <a:chExt cx="910440" cy="7956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7968960" y="1801800"/>
                <a:ext cx="910440" cy="795600"/>
                <a:chOff x="7968960" y="1801800"/>
                <a:chExt cx="910440" cy="7956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105040" y="227124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18360" y="232704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381880" y="228528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121600" y="1801800"/>
                  <a:ext cx="597960" cy="42444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163360" y="184608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183520" y="185976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411400" y="229932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436960" y="233532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381880" y="232128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381880" y="235188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664840" y="232380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68960" y="2416320"/>
                  <a:ext cx="910440" cy="14796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68960" y="256716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079480" y="242712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030880" y="244692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64040" y="244692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570520" y="248616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677440" y="245016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287200" y="224280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664840" y="220932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06200" y="226224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215920" y="225144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12" name="" descr=""/>
              <p:cNvPicPr/>
              <p:nvPr/>
            </p:nvPicPr>
            <p:blipFill>
              <a:blip r:embed="rId18"/>
              <a:srcRect l="0" t="8000" r="0" b="0"/>
              <a:stretch/>
            </p:blipFill>
            <p:spPr>
              <a:xfrm>
                <a:off x="8228880" y="1856520"/>
                <a:ext cx="39024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" descr=""/>
            <p:cNvPicPr/>
            <p:nvPr/>
          </p:nvPicPr>
          <p:blipFill>
            <a:blip r:embed="rId19"/>
            <a:srcRect l="0" t="8000" r="0" b="0"/>
            <a:stretch/>
          </p:blipFill>
          <p:spPr>
            <a:xfrm>
              <a:off x="4006800" y="3832200"/>
              <a:ext cx="7617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20"/>
            <a:stretch/>
          </p:blipFill>
          <p:spPr>
            <a:xfrm>
              <a:off x="6445080" y="2863800"/>
              <a:ext cx="5158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3735720" y="59166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Терминальный сер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52880" y="1370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Тонкие кл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2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5228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752480"/>
            <a:ext cx="882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бильные кли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438280" y="2590920"/>
          <a:ext cx="272124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590920"/>
                    <a:ext cx="2721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-152280" y="3505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сь процесс на ладон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2666880"/>
            <a:ext cx="38070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смотр и управление процесс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верждение аларм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нные IndustrialSQ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 у Вас под рук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торические трен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бщ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3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5867280" y="1828800"/>
            <a:ext cx="3048120" cy="2554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152388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доставление специализированной информаци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лавный инженер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варийная информ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ренды реальног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начения критических устав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хнологические отч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rcRect l="0" t="0" r="18020" b="0"/>
          <a:stretch/>
        </p:blipFill>
        <p:spPr>
          <a:xfrm>
            <a:off x="2514600" y="4419720"/>
            <a:ext cx="380988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4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4137120"/>
          <a:ext cx="4543560" cy="2714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37120"/>
                    <a:ext cx="454356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8" name="" descr=""/>
          <p:cNvPicPr/>
          <p:nvPr/>
        </p:nvPicPr>
        <p:blipFill>
          <a:blip r:embed="rId6"/>
          <a:srcRect l="0" t="23229" r="0" b="9034"/>
          <a:stretch/>
        </p:blipFill>
        <p:spPr>
          <a:xfrm>
            <a:off x="5105520" y="1752480"/>
            <a:ext cx="3809880" cy="27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9" name=""/>
          <p:cNvGraphicFramePr/>
          <p:nvPr/>
        </p:nvGraphicFramePr>
        <p:xfrm>
          <a:off x="3200400" y="3581280"/>
          <a:ext cx="4543560" cy="2714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581280"/>
                    <a:ext cx="45435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ректо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отреблении теп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отреблении холодной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отер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олагаемые са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56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257800" y="1601640"/>
            <a:ext cx="3886200" cy="36226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601720" cy="28195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5228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делу обслуживания и ремо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росто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работка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фик ремо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ческое составлени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вок на пополнение склад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66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здание информационного портала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3048120" y="1638360"/>
            <a:ext cx="5790960" cy="50702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4572000" y="4965840"/>
            <a:ext cx="2678040" cy="1672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6"/>
          <a:srcRect l="21229" t="0" r="0" b="0"/>
          <a:stretch/>
        </p:blipFill>
        <p:spPr>
          <a:xfrm>
            <a:off x="3124080" y="2637000"/>
            <a:ext cx="1447920" cy="23158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rcRect l="15002" t="28391" r="3751" b="19358"/>
          <a:stretch/>
        </p:blipFill>
        <p:spPr>
          <a:xfrm>
            <a:off x="4572000" y="2558880"/>
            <a:ext cx="2678040" cy="2302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3124080" y="4822920"/>
            <a:ext cx="1447920" cy="1882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7238880" y="4964040"/>
            <a:ext cx="1614600" cy="16653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0"/>
          <a:srcRect l="0" t="0" r="37836" b="18548"/>
          <a:stretch/>
        </p:blipFill>
        <p:spPr>
          <a:xfrm>
            <a:off x="7238880" y="2631960"/>
            <a:ext cx="1600200" cy="2397240"/>
          </a:xfrm>
          <a:prstGeom prst="rect">
            <a:avLst/>
          </a:prstGeom>
          <a:ln w="0">
            <a:noFill/>
          </a:ln>
        </p:spPr>
      </p:pic>
      <p:grpSp>
        <p:nvGrpSpPr>
          <p:cNvPr id="576" name=""/>
          <p:cNvGrpSpPr/>
          <p:nvPr/>
        </p:nvGrpSpPr>
        <p:grpSpPr>
          <a:xfrm>
            <a:off x="3048120" y="1960560"/>
            <a:ext cx="5573520" cy="630360"/>
            <a:chOff x="3048120" y="1960560"/>
            <a:chExt cx="5573520" cy="630360"/>
          </a:xfrm>
        </p:grpSpPr>
        <p:sp>
          <p:nvSpPr>
            <p:cNvPr id="577" name=""/>
            <p:cNvSpPr/>
            <p:nvPr/>
          </p:nvSpPr>
          <p:spPr>
            <a:xfrm>
              <a:off x="3048120" y="1960560"/>
              <a:ext cx="5573520" cy="63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20480" y="1960560"/>
              <a:ext cx="36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ff"/>
                  </a:solidFill>
                  <a:latin typeface="Times New Roman"/>
                </a:rPr>
                <a:t>Компания 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1"/>
            <a:stretch/>
          </p:blipFill>
          <p:spPr>
            <a:xfrm>
              <a:off x="7897680" y="1960560"/>
              <a:ext cx="65124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"/>
          <p:cNvSpPr/>
          <p:nvPr/>
        </p:nvSpPr>
        <p:spPr>
          <a:xfrm>
            <a:off x="0" y="1600200"/>
            <a:ext cx="29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ческие схемы и д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807080"/>
            <a:ext cx="29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тистический 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5257800"/>
            <a:ext cx="30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ы, анализы простоя обору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346536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ва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280" y="40384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требности в заказных издел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04812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тория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2362320"/>
            <a:ext cx="29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нды реального врем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86200" y="3581280"/>
          <a:ext cx="9907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581280"/>
                    <a:ext cx="990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1295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уктурная схема контроллер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629400" y="2590920"/>
          <a:ext cx="2097000" cy="173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590920"/>
                    <a:ext cx="209700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41800" y="2743200"/>
            <a:ext cx="30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муникацио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роллер (К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8400" y="2057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ndicator" descr=""/>
          <p:cNvPicPr/>
          <p:nvPr/>
        </p:nvPicPr>
        <p:blipFill>
          <a:blip r:embed="rId5"/>
          <a:stretch/>
        </p:blipFill>
        <p:spPr>
          <a:xfrm>
            <a:off x="5867280" y="5334120"/>
            <a:ext cx="82404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indicator" descr=""/>
          <p:cNvPicPr/>
          <p:nvPr/>
        </p:nvPicPr>
        <p:blipFill>
          <a:blip r:embed="rId6"/>
          <a:stretch/>
        </p:blipFill>
        <p:spPr>
          <a:xfrm>
            <a:off x="6629400" y="5334120"/>
            <a:ext cx="82404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indicator" descr=""/>
          <p:cNvPicPr/>
          <p:nvPr/>
        </p:nvPicPr>
        <p:blipFill>
          <a:blip r:embed="rId7"/>
          <a:stretch/>
        </p:blipFill>
        <p:spPr>
          <a:xfrm>
            <a:off x="5105520" y="5334120"/>
            <a:ext cx="8236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97320" y="4724280"/>
            <a:ext cx="39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и ввода/выво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57200" y="2971800"/>
            <a:ext cx="2057400" cy="13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00" y="1905120"/>
            <a:ext cx="35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ем для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диспетчерским пунк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51055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00400" y="53341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495680" y="67057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95280" y="28195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819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28195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055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35812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6477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477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6477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86360" y="3924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520" y="38098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7480" y="525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35812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41972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657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638680"/>
            <a:ext cx="28958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ое оборуд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последователь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рфей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560" y="6172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232/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8120" y="61722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5181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560" y="5257800"/>
            <a:ext cx="2361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7040" y="3124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1240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9360" y="464832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ния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logo" descr=""/>
          <p:cNvPicPr/>
          <p:nvPr/>
        </p:nvPicPr>
        <p:blipFill>
          <a:blip r:embed="rId10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moni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диспетчеризации комплексов тепло/водоснабжения и климат-контро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11120" y="1295280"/>
            <a:ext cx="33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Среда испол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696080" y="617220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59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разработ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moni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возможность разработки собств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о операторского интерфейса и подключения других систем сбор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разработ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moni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дополнительно) - возможность разработки технологической информационной системы предприятия и Intranet-пор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5640" y="129528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истемы разрабо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620120" y="609588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600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уктура программного обеспечения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895480"/>
            <a:ext cx="2210040" cy="1295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ая баз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тролл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4572000"/>
            <a:ext cx="12952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чтение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286000"/>
            <a:ext cx="12952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т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86000"/>
            <a:ext cx="60984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209680" y="2439000"/>
            <a:ext cx="54612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ты опроса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1752480"/>
            <a:ext cx="838080" cy="419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7543800" y="1828800"/>
            <a:ext cx="91188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 связи с верхним уровн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-R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146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098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8769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95288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02920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1055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18148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5181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99840" y="2819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99840" y="4114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19160" y="274284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19160" y="3809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19520" y="3886200"/>
            <a:ext cx="761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08660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8660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8457840" y="41148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257800" y="396216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410080" y="28951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22760" y="1676520"/>
            <a:ext cx="31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Каждый канал и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вое время опрос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60800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ндивидуальные канальные  буфера для сохранения значений при отсутствии связи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648320"/>
            <a:ext cx="22096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клад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ьзовател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иблиоте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191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152280" y="11430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иповая схема контроллер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1779480"/>
          <a:ext cx="8329680" cy="507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79480"/>
                    <a:ext cx="8329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2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азовая конфигурация контроллер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676520"/>
            <a:ext cx="8991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 базовой поставк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годный компенсато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L Comfort 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1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зовое программное обеспечение (Сре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исполнения коммуникационного контролл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01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-канальный модуль аналогового ввода 0-10В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4-20м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041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-канальный модуль дискретного вво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-24В, c встроенн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каторами состояния в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04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-канальный модуль дискретного выво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-24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Функции контроллера ComfortCom на Т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676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кальное регулирование по ПИ закону контур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ВС\отопления, по два на кажд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одный компесато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танционный контроль и  управление с диспетчерск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а по протокол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-RT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- параметров погодных компенсатор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оговых входов, например положения клапанов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чиков давления 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- от 14 дискретных датчиков и от 12 дискретных кома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диагностика системы и выдача аварийного сигнала  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чае отказа контро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Функции контроллера ComfortCom на Т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9051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ическое управление сдвоенными насосами 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ическим и аварийны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лючен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ндикаци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ии насос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E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чем авар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насосов определяется по реле падения давления на насо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ие потребляемого расхода/энергии 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пературному графику 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лючении дополнитель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я ввода импульсных сигналов  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A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ное программирование технологических алгоритмов 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ов/вых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14:17:54Z</dcterms:created>
  <dc:creator>vm</dc:creator>
  <dc:description/>
  <dc:language>en-US</dc:language>
  <cp:lastModifiedBy>RUCO0115</cp:lastModifiedBy>
  <dcterms:modified xsi:type="dcterms:W3CDTF">2003-05-05T08:22:13Z</dcterms:modified>
  <cp:revision>90</cp:revision>
  <dc:subject/>
  <dc:title>Заголовок слайда отсутствует</dc:title>
</cp:coreProperties>
</file>